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D567-331E-4484-9CB0-5C3A39FD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E83C-4A78-4EF2-B529-393C49CCF5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12E-0FDB-4B9C-BC50-E2516140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414-8CC5-4E13-B92F-1A38D771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F2B-BBF8-4633-BF76-04DFE6B3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203-75C9-47EC-8D5C-A6220996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DA4-ED00-4ED3-833F-F0B804B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BCD-B0AC-4EE2-B463-6FAFEED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D27-AC0D-45F7-934A-7D1A458A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086-28DA-4D41-A563-0C6AE4EC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013-63FA-4CA2-897E-D2842133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8AD-6FF1-4456-90A6-AD53AD89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DB7-60C0-4A8E-B588-6B75B77C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CA4-5F89-43FA-981E-0BEACAA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CD2-AF97-437B-B140-D38DDD331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90720" y="2209680"/>
            <a:ext cx="6705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反比例应用问题</a:t>
            </a:r>
            <a:endParaRPr b="1" i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971640" y="1197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2498760" y="2157480"/>
                <a:ext cx="4159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2514600" y="3568680"/>
                <a:ext cx="4273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00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Text Box 14"/>
          <p:cNvSpPr/>
          <p:nvPr/>
        </p:nvSpPr>
        <p:spPr>
          <a:xfrm>
            <a:off x="1116000" y="49482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这笔钱可采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型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900000" y="134784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法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771640" y="1413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车单价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3147840" y="2565360"/>
                <a:ext cx="2594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3666960" y="3429000"/>
                <a:ext cx="1393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2514600" y="4233960"/>
                <a:ext cx="4273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00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9"/>
          <p:cNvSpPr/>
          <p:nvPr/>
        </p:nvSpPr>
        <p:spPr>
          <a:xfrm>
            <a:off x="1187280" y="5229360"/>
            <a:ext cx="73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这笔钱可采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型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6516720" y="1844640"/>
            <a:ext cx="2303280" cy="1150920"/>
          </a:xfrm>
          <a:prstGeom prst="wedgeRectCallout">
            <a:avLst>
              <a:gd name="adj1" fmla="val -43726"/>
              <a:gd name="adj2" fmla="val 9248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数量与单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反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1420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练习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某修路队修一条环山水渠，计划每天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修完，实际每天比计划多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实际多少天可以修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857160" y="19288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每天修的路程和修的天数成反比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际每天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4  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+25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643040" y="31431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实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可以修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009880" y="3786120"/>
                <a:ext cx="5010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3071880" y="4429080"/>
                <a:ext cx="20178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3214800" y="5000760"/>
                <a:ext cx="14238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8"/>
          <p:cNvSpPr/>
          <p:nvPr/>
        </p:nvSpPr>
        <p:spPr>
          <a:xfrm>
            <a:off x="1042920" y="557208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实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可以修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95280" y="384120"/>
            <a:ext cx="8319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7030a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艘轮船从甲港驶往乙港，每小时航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米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时到达。如果每小时航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米，多少小时可以到达乙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285920" y="371628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714760" y="450864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×12÷30=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小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72880" y="7668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法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6012000" y="1125360"/>
            <a:ext cx="3097080" cy="2016360"/>
          </a:xfrm>
          <a:prstGeom prst="cloudCallout">
            <a:avLst>
              <a:gd name="adj1" fmla="val -47949"/>
              <a:gd name="adj2" fmla="val 9007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航行速度和时间成反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3240" y="76500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时可以到达乙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"/>
              <p:cNvSpPr txBox="1"/>
              <p:nvPr/>
            </p:nvSpPr>
            <p:spPr>
              <a:xfrm>
                <a:off x="1986120" y="1844640"/>
                <a:ext cx="28098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2505240" y="2828880"/>
                <a:ext cx="2609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2505240" y="3836880"/>
                <a:ext cx="1387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10"/>
          <p:cNvSpPr/>
          <p:nvPr/>
        </p:nvSpPr>
        <p:spPr>
          <a:xfrm>
            <a:off x="1403280" y="48038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时可以到达乙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3"/>
          <p:cNvSpPr/>
          <p:nvPr/>
        </p:nvSpPr>
        <p:spPr>
          <a:xfrm>
            <a:off x="3916080" y="1228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断下面每题中的两个量是否成正比例或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2222280" y="26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成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1280" y="2071800"/>
            <a:ext cx="85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的电线，用去的长度与剩下的长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1280" y="3286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三角形的面积一定，它的底和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1280" y="4556160"/>
            <a:ext cx="83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个数与它的倒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2222280" y="389736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367000" y="51354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457200" y="380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反比例应用题的基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判断题目中两种相关联的量是否成反比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列出比例式，并解比例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检查后写出答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特别注意所得答案是否符合实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0" y="533520"/>
            <a:ext cx="89917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课前回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判断下面各题中相关联的两种量成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路程一定，速度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总价一定，单价和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全校学生做体操，每行站的人数和站的行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562720" y="236232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858000" y="464832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791320" y="31240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95280" y="991800"/>
            <a:ext cx="842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一笔钱，可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支钢笔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支圆珠笔。每支钢笔比每支圆珠笔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每支钢笔和圆珠笔的价格各是多少元？这笔钱有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580000" y="4786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笔的价格和笔的数量成反比例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26920" y="3212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钢笔单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10  =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圆珠笔单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5731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设每支钢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13572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每支钢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则每支圆珠笔的价格为      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3728880" y="2000160"/>
                <a:ext cx="13431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3041640" y="2714760"/>
                <a:ext cx="2954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0"/>
              <p:cNvSpPr txBox="1"/>
              <p:nvPr/>
            </p:nvSpPr>
            <p:spPr>
              <a:xfrm>
                <a:off x="1928880" y="3357720"/>
                <a:ext cx="28940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1"/>
              <p:cNvSpPr txBox="1"/>
              <p:nvPr/>
            </p:nvSpPr>
            <p:spPr>
              <a:xfrm>
                <a:off x="3537000" y="3929040"/>
                <a:ext cx="10666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2"/>
              <p:cNvSpPr txBox="1"/>
              <p:nvPr/>
            </p:nvSpPr>
            <p:spPr>
              <a:xfrm>
                <a:off x="885960" y="4643280"/>
                <a:ext cx="24066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3"/>
              <p:cNvSpPr txBox="1"/>
              <p:nvPr/>
            </p:nvSpPr>
            <p:spPr>
              <a:xfrm>
                <a:off x="5129280" y="4643280"/>
                <a:ext cx="2801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" name="Text Box 14"/>
          <p:cNvSpPr/>
          <p:nvPr/>
        </p:nvSpPr>
        <p:spPr>
          <a:xfrm>
            <a:off x="395280" y="5373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每支钢笔的价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圆珠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这笔钱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539640" y="214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设每支圆珠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怎样列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84360" y="13572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每支圆珠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钢笔的价格为      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3159000" y="2000160"/>
                <a:ext cx="1341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2809800" y="2635200"/>
                <a:ext cx="3689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4386240" y="3278160"/>
                <a:ext cx="29005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1"/>
              <p:cNvSpPr txBox="1"/>
              <p:nvPr/>
            </p:nvSpPr>
            <p:spPr>
              <a:xfrm>
                <a:off x="4557600" y="3940200"/>
                <a:ext cx="1069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 Box 12"/>
          <p:cNvSpPr/>
          <p:nvPr/>
        </p:nvSpPr>
        <p:spPr>
          <a:xfrm>
            <a:off x="1690560" y="4359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+2=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5572080" y="4421160"/>
                <a:ext cx="2801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Text Box 14"/>
          <p:cNvSpPr/>
          <p:nvPr/>
        </p:nvSpPr>
        <p:spPr>
          <a:xfrm>
            <a:off x="395280" y="52149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每支钢笔的价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圆珠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这笔钱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08000" y="260280"/>
            <a:ext cx="8964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7030a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佳佳和强强从相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的两地同时同向而行，佳佳在前，强强在后。佳佳的速度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，强强的速度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。几分钟后强强追上佳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898560" y="4870440"/>
            <a:ext cx="7345440" cy="144360"/>
            <a:chOff x="898560" y="4870440"/>
            <a:chExt cx="7345440" cy="144360"/>
          </a:xfrm>
        </p:grpSpPr>
        <p:sp>
          <p:nvSpPr>
            <p:cNvPr id="76" name="Rectangle 5"/>
            <p:cNvSpPr/>
            <p:nvPr/>
          </p:nvSpPr>
          <p:spPr>
            <a:xfrm>
              <a:off x="898560" y="4870440"/>
              <a:ext cx="2160720" cy="144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059280" y="4870440"/>
              <a:ext cx="5184720" cy="14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AutoShape 9"/>
          <p:cNvSpPr/>
          <p:nvPr/>
        </p:nvSpPr>
        <p:spPr>
          <a:xfrm rot="16200000">
            <a:off x="4319280" y="1666800"/>
            <a:ext cx="433440" cy="727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189360 h 7272360"/>
              <a:gd name="textAreaBottom" fmla="*/ 7083000 h 727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38"/>
                </a:lnTo>
                <a:cubicBezTo>
                  <a:pt x="10800" y="10138"/>
                  <a:pt x="5400" y="11038"/>
                  <a:pt x="0" y="11038"/>
                </a:cubicBezTo>
                <a:cubicBezTo>
                  <a:pt x="5400" y="11038"/>
                  <a:pt x="10800" y="11938"/>
                  <a:pt x="10800" y="12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203640" y="5516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强强行走的路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24000" y="393552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强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629080" y="39355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佳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 rot="5400000">
            <a:off x="1835640" y="3707280"/>
            <a:ext cx="287640" cy="2159280"/>
          </a:xfrm>
          <a:custGeom>
            <a:avLst/>
            <a:gdLst>
              <a:gd name="textAreaLeft" fmla="*/ 183960 w 287640"/>
              <a:gd name="textAreaRight" fmla="*/ 288000 w 287640"/>
              <a:gd name="textAreaTop" fmla="*/ 56160 h 2159280"/>
              <a:gd name="textAreaBottom" fmla="*/ 2103120 h 21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476360" y="40035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5"/>
          <p:cNvSpPr/>
          <p:nvPr/>
        </p:nvSpPr>
        <p:spPr>
          <a:xfrm rot="5400000">
            <a:off x="5435640" y="2062080"/>
            <a:ext cx="431640" cy="518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140360" y="37162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佳佳行走的路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333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两人相遇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0040" y="14191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佳佳行走的路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0 m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强强行走的路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313000" y="2563920"/>
            <a:ext cx="431640" cy="1152360"/>
          </a:xfrm>
          <a:prstGeom prst="downArrow">
            <a:avLst>
              <a:gd name="adj1" fmla="val 50000"/>
              <a:gd name="adj2" fmla="val 6674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6424560" y="2563920"/>
            <a:ext cx="433440" cy="1152360"/>
          </a:xfrm>
          <a:prstGeom prst="downArrow">
            <a:avLst>
              <a:gd name="adj1" fmla="val 50000"/>
              <a:gd name="adj2" fmla="val 664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28800" y="396720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佳佳行走的时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403960" y="39672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强强行走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405080" y="12034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钟后强强追上佳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3137040" y="2492280"/>
                <a:ext cx="29368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043520" y="3284640"/>
                <a:ext cx="1742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500720" y="4005360"/>
                <a:ext cx="10713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 Box 8"/>
          <p:cNvSpPr/>
          <p:nvPr/>
        </p:nvSpPr>
        <p:spPr>
          <a:xfrm>
            <a:off x="1403280" y="5084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钟后强强追上佳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611280" y="44280"/>
            <a:ext cx="78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7030a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某自行车商行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万元采购一批自行车，只采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的辆数是只采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辆数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便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元。这笔钱可以采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多少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小老师_副本"/>
          <p:cNvPicPr/>
          <p:nvPr/>
        </p:nvPicPr>
        <p:blipFill>
          <a:blip r:embed="rId1"/>
          <a:stretch/>
        </p:blipFill>
        <p:spPr>
          <a:xfrm>
            <a:off x="6853320" y="4724280"/>
            <a:ext cx="1174680" cy="21020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6"/>
          <p:cNvSpPr/>
          <p:nvPr/>
        </p:nvSpPr>
        <p:spPr>
          <a:xfrm rot="10800000">
            <a:off x="826920" y="4147920"/>
            <a:ext cx="5329440" cy="1657080"/>
          </a:xfrm>
          <a:prstGeom prst="wedgeRoundRectCallout">
            <a:avLst>
              <a:gd name="adj1" fmla="val -63615"/>
              <a:gd name="adj2" fmla="val -34962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总价一定，数量比是单价比的反比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车的单价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车单价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10:59:14Z</dcterms:created>
  <dc:creator/>
  <dc:description/>
  <cp:keywords/>
  <dc:language>en-US</dc:language>
  <cp:lastModifiedBy/>
  <dcterms:modified xsi:type="dcterms:W3CDTF">2017-12-21T14:06:43Z</dcterms:modified>
  <cp:revision>1</cp:revision>
  <dc:subject/>
  <dc:title/>
</cp:coreProperties>
</file>